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BC2-51D8-475F-A602-4E7AB94C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4DF-E3ED-4782-958F-BAF57E5B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AA1-D7B6-4664-99BC-427600B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578-5205-4499-B683-53FD68AA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47E-EBCA-4BC6-BA7A-4B4785E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50E-1AF3-4DF5-95A4-BE6951FA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9E6-18D8-4717-A053-BD340BC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6E7-A0CB-4CB3-87FF-2F7D342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09D-7D75-4482-888F-18A3826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E4B-7B20-4785-8D56-3CE4E52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6FE-6BA1-4BAF-A165-5C35ADC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74E-FF6E-4CF3-9699-F26F110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4F73F92-9BF0-4130-990C-122D8634C5F9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防雷设施及接地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防雷设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带和避雷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774720" y="1068480"/>
            <a:ext cx="403056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保护建筑物免遭直击雷和感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雷袭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材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采用圆钢和扁钢，优先采用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钢；接闪器应镀锌或涂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使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沿建筑物屋面敷设，再经引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线与接地装置连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7" descr="避雷带"/>
          <p:cNvPicPr/>
          <p:nvPr/>
        </p:nvPicPr>
        <p:blipFill>
          <a:blip r:embed="rId2"/>
          <a:stretch/>
        </p:blipFill>
        <p:spPr>
          <a:xfrm>
            <a:off x="5460840" y="779400"/>
            <a:ext cx="2519640" cy="1774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" descr="避雷网"/>
          <p:cNvPicPr/>
          <p:nvPr/>
        </p:nvPicPr>
        <p:blipFill>
          <a:blip r:embed="rId3"/>
          <a:stretch/>
        </p:blipFill>
        <p:spPr>
          <a:xfrm>
            <a:off x="5460840" y="2820960"/>
            <a:ext cx="2519640" cy="1825560"/>
          </a:xfrm>
          <a:prstGeom prst="rect">
            <a:avLst/>
          </a:prstGeom>
          <a:ln w="0">
            <a:noFill/>
          </a:ln>
        </p:spPr>
      </p:pic>
      <p:cxnSp>
        <p:nvCxnSpPr>
          <p:cNvPr id="146" name="直接箭头连接符 6"/>
          <p:cNvCxnSpPr/>
          <p:nvPr/>
        </p:nvCxnSpPr>
        <p:spPr>
          <a:xfrm flipV="1">
            <a:off x="6411600" y="1089720"/>
            <a:ext cx="237240" cy="288360"/>
          </a:xfrm>
          <a:prstGeom prst="straightConnector1">
            <a:avLst/>
          </a:prstGeom>
          <a:ln w="6480">
            <a:solidFill>
              <a:srgbClr val="6096e6"/>
            </a:solidFill>
            <a:miter/>
            <a:tailEnd len="med" type="arrow" w="med"/>
          </a:ln>
        </p:spPr>
      </p:cxnSp>
      <p:sp>
        <p:nvSpPr>
          <p:cNvPr id="147" name="文本框 10"/>
          <p:cNvSpPr/>
          <p:nvPr/>
        </p:nvSpPr>
        <p:spPr>
          <a:xfrm>
            <a:off x="6583320" y="925560"/>
            <a:ext cx="8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避雷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直接箭头连接符 11"/>
          <p:cNvCxnSpPr/>
          <p:nvPr/>
        </p:nvCxnSpPr>
        <p:spPr>
          <a:xfrm flipV="1">
            <a:off x="5786280" y="1002960"/>
            <a:ext cx="223200" cy="403920"/>
          </a:xfrm>
          <a:prstGeom prst="straightConnector1">
            <a:avLst/>
          </a:prstGeom>
          <a:ln w="6480">
            <a:solidFill>
              <a:srgbClr val="6096e6"/>
            </a:solidFill>
            <a:miter/>
            <a:tailEnd len="med" type="arrow" w="med"/>
          </a:ln>
        </p:spPr>
      </p:cxnSp>
      <p:sp>
        <p:nvSpPr>
          <p:cNvPr id="149" name="文本框 12"/>
          <p:cNvSpPr/>
          <p:nvPr/>
        </p:nvSpPr>
        <p:spPr>
          <a:xfrm>
            <a:off x="5934240" y="708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避雷带支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5"/>
          <p:cNvSpPr/>
          <p:nvPr/>
        </p:nvSpPr>
        <p:spPr>
          <a:xfrm>
            <a:off x="4274280" y="136440"/>
            <a:ext cx="595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1117440" y="1085760"/>
            <a:ext cx="39038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限制入侵雷电波过电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类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①保护间隙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排气式避雷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阀式避雷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氧化锌避雷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6" descr="氧化锌避雷器"/>
          <p:cNvPicPr/>
          <p:nvPr/>
        </p:nvPicPr>
        <p:blipFill>
          <a:blip r:embed="rId2"/>
          <a:stretch/>
        </p:blipFill>
        <p:spPr>
          <a:xfrm>
            <a:off x="5568840" y="1052640"/>
            <a:ext cx="2781360" cy="2485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6114960" y="37400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氧化锌避雷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避雷针（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51400" y="113364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雷电及防雷设施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避雷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954240" y="123840"/>
            <a:ext cx="123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防雷设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避雷带和避雷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1082520"/>
            <a:ext cx="49816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雷电放电的特点及危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特点：宏伟壮观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气体放电现象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，会引起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大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电磁效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机械效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热效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危害：雷电过电压会造成电力系统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绝缘故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停电事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，此外巨大的雷电流会造成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电气设备的损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雷电及防雷设施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" descr="雷电"/>
          <p:cNvPicPr/>
          <p:nvPr/>
        </p:nvPicPr>
        <p:blipFill>
          <a:blip r:embed="rId2"/>
          <a:stretch/>
        </p:blipFill>
        <p:spPr>
          <a:xfrm>
            <a:off x="6327720" y="901800"/>
            <a:ext cx="244656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662040"/>
            <a:ext cx="767376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雷电危害的预防和限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防雷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安装避雷针、架设避雷线、装设避雷带和避雷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防雷保护设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装设避雷器、装设浪涌保护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采用防雷设施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保证电力系统一次设备的安全，保证电力系统的安全稳定运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雷电及防雷设施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847800" y="662040"/>
            <a:ext cx="767700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避雷针根据安装方式分为：独立避雷针和构架避雷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避雷线根据输电线路电压等级分为：全线架设和进线段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1~2km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）架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"/>
          <p:cNvSpPr/>
          <p:nvPr/>
        </p:nvSpPr>
        <p:spPr>
          <a:xfrm>
            <a:off x="4045680" y="136440"/>
            <a:ext cx="10526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针（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847800" y="44053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2169d3"/>
                </a:solidFill>
                <a:latin typeface="微软雅黑"/>
              </a:rPr>
              <a:t>独立避雷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6369120" y="4405320"/>
            <a:ext cx="16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2169d3"/>
                </a:solidFill>
                <a:latin typeface="微软雅黑"/>
              </a:rPr>
              <a:t>避雷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6" descr="独立避雷针"/>
          <p:cNvPicPr/>
          <p:nvPr/>
        </p:nvPicPr>
        <p:blipFill>
          <a:blip r:embed="rId2"/>
          <a:stretch/>
        </p:blipFill>
        <p:spPr>
          <a:xfrm>
            <a:off x="847800" y="1790640"/>
            <a:ext cx="1758960" cy="23464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8" descr="构架避雷针"/>
          <p:cNvPicPr/>
          <p:nvPr/>
        </p:nvPicPr>
        <p:blipFill>
          <a:blip r:embed="rId3"/>
          <a:stretch/>
        </p:blipFill>
        <p:spPr>
          <a:xfrm>
            <a:off x="2711520" y="2016000"/>
            <a:ext cx="2736720" cy="1895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0" descr="避雷线"/>
          <p:cNvPicPr/>
          <p:nvPr/>
        </p:nvPicPr>
        <p:blipFill>
          <a:blip r:embed="rId4"/>
          <a:stretch/>
        </p:blipFill>
        <p:spPr>
          <a:xfrm>
            <a:off x="5634000" y="1889280"/>
            <a:ext cx="3157560" cy="2247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3235320" y="44053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2169d3"/>
                </a:solidFill>
                <a:latin typeface="微软雅黑"/>
              </a:rPr>
              <a:t>构架避雷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045680" y="136440"/>
            <a:ext cx="10526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针（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880920" y="865080"/>
            <a:ext cx="75358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避雷针（线）的保护原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引导雷电向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避雷针（线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放电，再通过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接地引下线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接地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将雷电流引入大地，从而使被保护物体免遭雷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"/>
          <p:cNvSpPr/>
          <p:nvPr/>
        </p:nvSpPr>
        <p:spPr>
          <a:xfrm>
            <a:off x="880920" y="2320920"/>
            <a:ext cx="75949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避雷针（线）保护范围的确定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滚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折线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5"/>
          <p:cNvSpPr/>
          <p:nvPr/>
        </p:nvSpPr>
        <p:spPr>
          <a:xfrm>
            <a:off x="4045680" y="136440"/>
            <a:ext cx="10526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针（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40" descr=""/>
          <p:cNvPicPr/>
          <p:nvPr/>
        </p:nvPicPr>
        <p:blipFill>
          <a:blip r:embed="rId2"/>
          <a:stretch/>
        </p:blipFill>
        <p:spPr>
          <a:xfrm>
            <a:off x="5245200" y="1455840"/>
            <a:ext cx="2574720" cy="2763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8"/>
          <p:cNvSpPr/>
          <p:nvPr/>
        </p:nvSpPr>
        <p:spPr>
          <a:xfrm>
            <a:off x="1297080" y="1243080"/>
            <a:ext cx="2442960" cy="3228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7" descr="360截图20210719191004211"/>
          <p:cNvPicPr/>
          <p:nvPr/>
        </p:nvPicPr>
        <p:blipFill>
          <a:blip r:embed="rId3"/>
          <a:stretch/>
        </p:blipFill>
        <p:spPr>
          <a:xfrm>
            <a:off x="1297080" y="1243080"/>
            <a:ext cx="2444760" cy="3230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966960" y="665280"/>
            <a:ext cx="44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滚球法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IEEE 998-2012 IEEE Guid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Direct Lightning Stroke Shielding of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Substation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5"/>
          <p:cNvSpPr/>
          <p:nvPr/>
        </p:nvSpPr>
        <p:spPr>
          <a:xfrm>
            <a:off x="4045680" y="136440"/>
            <a:ext cx="10526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针（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6" descr="折线法"/>
          <p:cNvPicPr/>
          <p:nvPr/>
        </p:nvPicPr>
        <p:blipFill>
          <a:blip r:embed="rId2"/>
          <a:stretch/>
        </p:blipFill>
        <p:spPr>
          <a:xfrm>
            <a:off x="4873680" y="1339920"/>
            <a:ext cx="3128760" cy="28335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C:\Users\xuzhaoyi\Desktop\许昭一暑假工作\2021暑假录课\模块四 其他电气设备的运行与维护\项目3 防雷设施及接地装置\任务1 认识防雷设施\图片\规范2.jpg规范2"/>
          <p:cNvPicPr/>
          <p:nvPr/>
        </p:nvPicPr>
        <p:blipFill>
          <a:blip r:embed="rId3"/>
          <a:stretch/>
        </p:blipFill>
        <p:spPr>
          <a:xfrm>
            <a:off x="1298520" y="1228680"/>
            <a:ext cx="2286000" cy="33130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966960" y="665280"/>
            <a:ext cx="44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折线法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《交流电气装置的过电压保护和绝缘配合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GB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T 50064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4045680" y="136440"/>
            <a:ext cx="10526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避雷针（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1193760" y="874800"/>
            <a:ext cx="472284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思考：滚球法和折线法对于防雷保护范围的计算模型不同，那么在电力工程中应该采用哪种方法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1193760" y="2344680"/>
            <a:ext cx="47228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答：在工程应用中对于设备上方有导线的区域可以采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折线法设计，滚球法校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的设计方式；对于设备上方没有导线的区域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宜采用滚球法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进行防雷设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6" descr="src=http___pic.51yuansu.com_pic3_cover_00_87_31_58db0089142d4_610.jpg&amp;refer=http___pic.51yuansu"/>
          <p:cNvPicPr/>
          <p:nvPr/>
        </p:nvPicPr>
        <p:blipFill>
          <a:blip r:embed="rId2"/>
          <a:stretch/>
        </p:blipFill>
        <p:spPr>
          <a:xfrm>
            <a:off x="6353280" y="1030320"/>
            <a:ext cx="1981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4:36Z</dcterms:modified>
  <cp:revision>4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